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B03F-43FF-4EC4-A9B9-D952BD732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8EC5-D804-4C09-9A85-06A44FAE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A609-D0C9-4CE3-8219-BF819A004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1E30-667B-405E-AB93-24292D7FD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F80C-92E6-4D5A-9D9E-0954DF99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FEFA-F362-4127-943E-B9FDDCBA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E91C-6590-46D8-B44B-49F846FD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0416-1864-4FE3-B4A5-730B87AB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DCBF-94E3-41B7-AD00-ECCF6488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CFF7-C3C1-40FF-A519-23DE8327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1A46-2E8B-4D75-9301-18AAD17B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80AE-92E1-4DB4-B2DD-65C1367A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23DB-0FFA-4217-90EB-A693D5F16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557360"/>
            <a:ext cx="84978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To learn about where people speak Spanish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to find out what Spanish is really calle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to revise the colou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to do some brain exercis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to describe the flags of Spanish-speaking countri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to run around the roo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84360" y="1341360"/>
            <a:ext cx="4535640" cy="2879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68360" y="4941720"/>
            <a:ext cx="5183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Arial"/>
              </a:rPr>
              <a:t>gri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484360" y="1341360"/>
            <a:ext cx="4535640" cy="28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68360" y="4941720"/>
            <a:ext cx="5183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Arial"/>
              </a:rPr>
              <a:t>azul clar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484360" y="1341360"/>
            <a:ext cx="4535640" cy="2879640"/>
          </a:xfrm>
          <a:prstGeom prst="rect">
            <a:avLst/>
          </a:prstGeom>
          <a:solidFill>
            <a:srgbClr val="2309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68360" y="4941720"/>
            <a:ext cx="5183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Arial"/>
              </a:rPr>
              <a:t>azul oscur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771640" y="836640"/>
            <a:ext cx="3745080" cy="31687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42920" y="486900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con una estrella roj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42920" y="4869000"/>
            <a:ext cx="756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con rayas horizontales azu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2276640"/>
            <a:ext cx="3960720" cy="0"/>
          </a:xfrm>
          <a:prstGeom prst="line">
            <a:avLst/>
          </a:prstGeom>
          <a:ln w="76320">
            <a:solidFill>
              <a:srgbClr val="230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16360" y="2492280"/>
            <a:ext cx="3960720" cy="0"/>
          </a:xfrm>
          <a:prstGeom prst="line">
            <a:avLst/>
          </a:prstGeom>
          <a:ln w="76320">
            <a:solidFill>
              <a:srgbClr val="230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16360" y="2708280"/>
            <a:ext cx="3960720" cy="0"/>
          </a:xfrm>
          <a:prstGeom prst="line">
            <a:avLst/>
          </a:prstGeom>
          <a:ln w="76320">
            <a:solidFill>
              <a:srgbClr val="230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16360" y="2924280"/>
            <a:ext cx="3960720" cy="0"/>
          </a:xfrm>
          <a:prstGeom prst="line">
            <a:avLst/>
          </a:prstGeom>
          <a:ln w="76320">
            <a:solidFill>
              <a:srgbClr val="230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71640" y="4292640"/>
            <a:ext cx="75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con rayas verticales verd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77080" y="1052640"/>
            <a:ext cx="0" cy="1798560"/>
          </a:xfrm>
          <a:prstGeom prst="line">
            <a:avLst/>
          </a:prstGeom>
          <a:ln w="76320">
            <a:solidFill>
              <a:srgbClr val="0ce2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88000" y="1052640"/>
            <a:ext cx="0" cy="1798560"/>
          </a:xfrm>
          <a:prstGeom prst="line">
            <a:avLst/>
          </a:prstGeom>
          <a:ln w="76320">
            <a:solidFill>
              <a:srgbClr val="0ce2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00720" y="1052640"/>
            <a:ext cx="0" cy="1798560"/>
          </a:xfrm>
          <a:prstGeom prst="line">
            <a:avLst/>
          </a:prstGeom>
          <a:ln w="76320">
            <a:solidFill>
              <a:srgbClr val="0ce2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12000" y="1052640"/>
            <a:ext cx="0" cy="1798560"/>
          </a:xfrm>
          <a:prstGeom prst="line">
            <a:avLst/>
          </a:prstGeom>
          <a:ln w="76320">
            <a:solidFill>
              <a:srgbClr val="0ce2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24360" y="1052640"/>
            <a:ext cx="0" cy="1798560"/>
          </a:xfrm>
          <a:prstGeom prst="line">
            <a:avLst/>
          </a:prstGeom>
          <a:ln w="76320">
            <a:solidFill>
              <a:srgbClr val="0ce2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26920" y="620640"/>
            <a:ext cx="136692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95640" y="4653000"/>
            <a:ext cx="1366920" cy="93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59280" y="620640"/>
            <a:ext cx="1366920" cy="935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79640" y="4653000"/>
            <a:ext cx="1366920" cy="93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0000" y="2637000"/>
            <a:ext cx="1366920" cy="93492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6920" y="2565360"/>
            <a:ext cx="1366920" cy="93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84720" y="4653000"/>
            <a:ext cx="1366920" cy="93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43280" y="620640"/>
            <a:ext cx="1366920" cy="9352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16360" y="2708280"/>
            <a:ext cx="1366920" cy="93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71640" y="2637000"/>
            <a:ext cx="1366920" cy="93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20000" y="620640"/>
            <a:ext cx="1366920" cy="935280"/>
          </a:xfrm>
          <a:prstGeom prst="rect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1700280"/>
            <a:ext cx="1224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z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43280" y="1773360"/>
            <a:ext cx="1224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50920" y="5661000"/>
            <a:ext cx="1224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95640" y="5661000"/>
            <a:ext cx="15843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r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0360" y="5661000"/>
            <a:ext cx="15112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1773360"/>
            <a:ext cx="1512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32360" y="1773360"/>
            <a:ext cx="1224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6920" y="3645000"/>
            <a:ext cx="16574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ar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71640" y="3716280"/>
            <a:ext cx="1440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g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3716280"/>
            <a:ext cx="15112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l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4360" y="3645000"/>
            <a:ext cx="1224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95280" y="260280"/>
            <a:ext cx="8353440" cy="57103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lor = colou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labra =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66ff33"/>
                </a:solidFill>
                <a:latin typeface="Arial"/>
              </a:rPr>
              <a:t>azu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amar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blanc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ve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orad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neg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s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ro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660033"/>
                </a:solidFill>
                <a:latin typeface="Arial"/>
              </a:rPr>
              <a:t>marr</a:t>
            </a:r>
            <a:r>
              <a:rPr b="0" lang="en-GB" sz="2800" spc="-1" strike="noStrike">
                <a:solidFill>
                  <a:srgbClr val="660033"/>
                </a:solidFill>
                <a:latin typeface="Arial"/>
                <a:ea typeface="Arial"/>
              </a:rPr>
              <a:t>ó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nar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33cc"/>
                </a:solidFill>
                <a:latin typeface="Arial"/>
              </a:rPr>
              <a:t>gr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76360" y="1341360"/>
            <a:ext cx="136692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3429000"/>
            <a:ext cx="1366560" cy="93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88000" y="765000"/>
            <a:ext cx="1366920" cy="935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24000" y="4724280"/>
            <a:ext cx="1366920" cy="93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84720" y="2276640"/>
            <a:ext cx="1366920" cy="93492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2997360"/>
            <a:ext cx="1366920" cy="93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77080" y="5157720"/>
            <a:ext cx="1366920" cy="9352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56000" y="404640"/>
            <a:ext cx="1366920" cy="9352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84720" y="5373720"/>
            <a:ext cx="1366920" cy="93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08360" y="3645000"/>
            <a:ext cx="1366920" cy="93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77080" y="2060640"/>
            <a:ext cx="1366920" cy="934920"/>
          </a:xfrm>
          <a:prstGeom prst="rect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8360" y="1197000"/>
            <a:ext cx="8207280" cy="3097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you missed the lesson on colours last week, you need to complete the write-down sheet on colours AND THEN the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you were here, you just need to copy the vocab from the next side and then describe some flag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195640" y="1557360"/>
            <a:ext cx="518292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Arial"/>
              </a:rPr>
              <a:t>Los colores de las bandera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476280"/>
            <a:ext cx="8569080" cy="58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Las bande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fla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 una estrella roj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a red 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 rayas horizontales azul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horizontal blue stri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 rayas verticales verd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vertical green stri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w choose a few flags and describe them!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bandera de Colombia 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484360" y="1341360"/>
            <a:ext cx="4535640" cy="2879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4941720"/>
            <a:ext cx="5183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Arial"/>
              </a:rPr>
              <a:t>negr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484360" y="1341360"/>
            <a:ext cx="4535640" cy="28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68360" y="4941720"/>
            <a:ext cx="5183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Arial"/>
              </a:rPr>
              <a:t>blanc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484360" y="1341360"/>
            <a:ext cx="4535640" cy="2879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68360" y="4941720"/>
            <a:ext cx="5183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Arial"/>
              </a:rPr>
              <a:t>roj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484360" y="1341360"/>
            <a:ext cx="4535640" cy="2879640"/>
          </a:xfrm>
          <a:prstGeom prst="rect">
            <a:avLst/>
          </a:prstGeom>
          <a:solidFill>
            <a:srgbClr val="0ce2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68360" y="4941720"/>
            <a:ext cx="5183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Arial"/>
              </a:rPr>
              <a:t>verd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84360" y="1341360"/>
            <a:ext cx="4535640" cy="2879640"/>
          </a:xfrm>
          <a:prstGeom prst="rect">
            <a:avLst/>
          </a:prstGeom>
          <a:solidFill>
            <a:srgbClr val="e9fa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68360" y="4941720"/>
            <a:ext cx="5183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Arial"/>
              </a:rPr>
              <a:t>amarill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84360" y="1341360"/>
            <a:ext cx="4535640" cy="287964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68360" y="4941720"/>
            <a:ext cx="5183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Arial"/>
              </a:rPr>
              <a:t>marr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  <a:ea typeface="Arial"/>
              </a:rPr>
              <a:t>ó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484360" y="1341360"/>
            <a:ext cx="4535640" cy="2879640"/>
          </a:xfrm>
          <a:prstGeom prst="rect">
            <a:avLst/>
          </a:prstGeom>
          <a:solidFill>
            <a:srgbClr val="cc32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941720"/>
            <a:ext cx="5183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Arial"/>
              </a:rPr>
              <a:t>morad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1:41:09Z</dcterms:created>
  <dc:creator>Chris Fuller</dc:creator>
  <dc:description/>
  <dc:language>en-US</dc:language>
  <cp:lastModifiedBy>Owner1</cp:lastModifiedBy>
  <dcterms:modified xsi:type="dcterms:W3CDTF">2008-10-13T16:39:56Z</dcterms:modified>
  <cp:revision>4</cp:revision>
  <dc:subject/>
  <dc:title>Slide 1</dc:title>
</cp:coreProperties>
</file>